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7.wmf" ContentType="image/x-wmf"/>
  <Override PartName="/ppt/media/image2.wmf" ContentType="image/x-wmf"/>
  <Override PartName="/ppt/media/clap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drumroll.wav" ContentType="audio/x-wav"/>
  <Override PartName="/ppt/media/applaus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7DD-68F3-44A8-9D53-B7C5E621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71E-9FE9-451B-904E-23793E2A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F0D-041E-4EC1-A364-20A62A86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47B-E9F5-46D7-B150-FF10B05C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6FE1-0267-4C59-B416-F74F50DE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C5FA-DE67-4A5A-B237-1685DCF0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B4BF-1A20-4513-B8A6-7619804F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7456-A31A-4A4B-BF9F-3B8A9208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0851-0EF6-491E-AF7B-7111D8B9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F575-911B-476B-8208-DCF7AD26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25A0-0AE1-4FB2-A4E1-AC61EB3E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DC0-DEE1-4088-AC78-2CEF6314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87E6-FC78-4AC8-BB91-D3D6A6DB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F521-E72D-40CE-847F-3EAE187B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9FCF-8C89-4C39-9A02-5BE3219A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2715-13C8-4160-AEA4-F408240E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824A-52D3-4CA9-9528-3CA633DF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940-B61F-4C63-BA2F-0D0057D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407-9CC0-4E88-B3C8-9E671B99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59A-E462-4217-BD72-A20D10BA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2B5-F091-4424-A170-37E71FE8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2B1-DEAE-4270-9858-3716875D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753-CCAB-4394-BD09-6ED061C0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C87-D309-4D5B-B849-F2FCC56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24F5-6882-4D00-93C9-DB76DA40C4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1F15-2001-4E24-9BEF-0FDCFA5731F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Writing a 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lpful hints for story wr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6" descr="C:\Program Files\Microsoft Office\Clipart\Pub60Cor\so01568_.wmf"/>
          <p:cNvPicPr/>
          <p:nvPr/>
        </p:nvPicPr>
        <p:blipFill>
          <a:blip r:embed="rId1"/>
          <a:stretch/>
        </p:blipFill>
        <p:spPr>
          <a:xfrm>
            <a:off x="3618000" y="2500200"/>
            <a:ext cx="316368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The Begi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setting – where you are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charact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se adjectives, powerful verbs, ad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6" descr="C:\Program Files\Microsoft Office\Clipart\Pub60Cor\pe00014_.wmf"/>
          <p:cNvPicPr/>
          <p:nvPr/>
        </p:nvPicPr>
        <p:blipFill>
          <a:blip r:embed="rId1"/>
          <a:stretch/>
        </p:blipFill>
        <p:spPr>
          <a:xfrm>
            <a:off x="5638680" y="4114800"/>
            <a:ext cx="2667240" cy="181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Where do you go to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w do you reach your imaginary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 through a door, through a hole in the garden fence, in the shed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2819520" cy="2451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Describe your imaginary world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can you se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can you he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can you sme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can you fe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can you tast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7" descr="C:\Program Files\Microsoft Office\Clipart\Pub60Cor\na01064_.wmf"/>
          <p:cNvPicPr/>
          <p:nvPr/>
        </p:nvPicPr>
        <p:blipFill>
          <a:blip r:embed="rId1"/>
          <a:stretch/>
        </p:blipFill>
        <p:spPr>
          <a:xfrm>
            <a:off x="685800" y="2165400"/>
            <a:ext cx="3809880" cy="3746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A mythical creature appears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re does the mythical creature appear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Do you hear a rustling in a tree, a noise from behind, does it land in front of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does the mythical creature look li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adjectives, powerful verbs and adverb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C:\Program Files\Microsoft Office\Clipart\Pub60Cor\j0099153.wmf"/>
          <p:cNvPicPr/>
          <p:nvPr/>
        </p:nvPicPr>
        <p:blipFill>
          <a:blip r:embed="rId1"/>
          <a:stretch/>
        </p:blipFill>
        <p:spPr>
          <a:xfrm>
            <a:off x="3505320" y="533520"/>
            <a:ext cx="2449440" cy="215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What happe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ink of what the creature do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s it nast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es it chase yo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s it friend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 you help it 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ometh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s it hur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7" descr="C:\Program Files\Microsoft Office\Clipart\Pub60Cor\an00932_.wmf"/>
          <p:cNvPicPr/>
          <p:nvPr/>
        </p:nvPicPr>
        <p:blipFill>
          <a:blip r:embed="rId1"/>
          <a:stretch/>
        </p:blipFill>
        <p:spPr>
          <a:xfrm>
            <a:off x="5486400" y="2590920"/>
            <a:ext cx="3429000" cy="2244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What is the complicatio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oes it capture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oes it take you to i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air, a ca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o you mee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robl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you 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help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Program Files\Microsoft Office\Clipart\Pub60Cor\so02067_.wmf"/>
          <p:cNvPicPr/>
          <p:nvPr/>
        </p:nvPicPr>
        <p:blipFill>
          <a:blip r:embed="rId1"/>
          <a:stretch/>
        </p:blipFill>
        <p:spPr>
          <a:xfrm>
            <a:off x="5791320" y="2209680"/>
            <a:ext cx="3076560" cy="346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The Ending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w does the problem get solv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w do you manage to esca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member that the reader must KNOW it is the end of the story WITHOUT you writing “The En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C:\Program Files\Microsoft Office\Clipart\Pub60Cor\pe02288_.wmf"/>
          <p:cNvPicPr/>
          <p:nvPr/>
        </p:nvPicPr>
        <p:blipFill>
          <a:blip r:embed="rId1"/>
          <a:stretch/>
        </p:blipFill>
        <p:spPr>
          <a:xfrm>
            <a:off x="6324480" y="4930920"/>
            <a:ext cx="1638360" cy="1927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ave you remember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pital letters and full stop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owerful adjectives, adverbs and verb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aragraph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onn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xclamation marks, question marks, speech mark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ew line when someone spea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ep to the same person – I doesn’t change to “he” unless there is another charac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NEAT HANDWR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9" descr="C:\Program Files\Microsoft Office\Clipart\Pub60Cor\bd00146_.wmf"/>
          <p:cNvPicPr/>
          <p:nvPr/>
        </p:nvPicPr>
        <p:blipFill>
          <a:blip r:embed="rId1"/>
          <a:stretch/>
        </p:blipFill>
        <p:spPr>
          <a:xfrm>
            <a:off x="6705720" y="380880"/>
            <a:ext cx="1827000" cy="18129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2816640" y="28584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Checkli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20:31:50Z</dcterms:created>
  <dc:creator>RM</dc:creator>
  <dc:description/>
  <dc:language>en-US</dc:language>
  <cp:lastModifiedBy>Gareth Pitchford</cp:lastModifiedBy>
  <dcterms:modified xsi:type="dcterms:W3CDTF">2007-05-31T14:26:11Z</dcterms:modified>
  <cp:revision>12</cp:revision>
  <dc:subject/>
  <dc:title>Writing a Story</dc:title>
</cp:coreProperties>
</file>